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BC7-D747-4457-9EC8-CD0ECE7F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CD1-1FAD-4D65-9180-A6CFFF2F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F45-89D0-46B3-9A1A-72EF8448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492-18BE-4BB2-87E2-52B63EEC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94D-1E27-4D05-969A-55379B79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051-145A-4789-B892-15EEAE5E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75E-AFEB-4076-AFE4-8CD754AE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349-28EB-4BED-AE0C-1C13A631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382-FC33-4352-B928-7E2864CB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0DF-91BC-46E5-8AA1-86911E63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332-D991-4124-AED0-4F8AF316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AAC-1957-43E8-8437-6B8E4511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065B-9114-4817-A13D-B4C60A6E04D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9F35-E5C4-4416-AB04-E552D92A49B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uess wh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im: identify this historical charac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1116000" y="5805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2060"/>
                </a:solidFill>
                <a:latin typeface="Calibri"/>
              </a:rPr>
              <a:t>Adapted from: http://www.tesol-spain.org/newsletter/andrewe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Wrong,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B36F-1A71-4B19-B59A-DF4FEA7DCFD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ir-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hoose a famous historical charac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pare a list of clues (Don’t forget to use the past ten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rder them, from the most difficult to the easi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st your partners’ knowled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5882-3B47-4380-8FC5-772AC7991BA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k compl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ent and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chanics (Writing and Speak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am-work (collabora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ticipation (listens to others, raises hand, answ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F689-3048-426A-B8E6-3B78AE66039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5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205000"/>
            <a:ext cx="8229600" cy="2332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ing probably never exi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6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7A30-E1FA-42F1-AD26-2876D7DCEAA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4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ends about him became popular in the 12th Century in the literary genre known as Tales of Chival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6167-179F-40BE-B4C4-E80A6E15E9E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3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15920"/>
            <a:ext cx="5257800" cy="2693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supposed to have lived in the 6th Century in the South West of Eng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62440" y="1125360"/>
            <a:ext cx="3448080" cy="5399280"/>
          </a:xfrm>
          <a:prstGeom prst="rect">
            <a:avLst/>
          </a:prstGeom>
          <a:ln w="0">
            <a:noFill/>
          </a:ln>
        </p:spPr>
      </p:pic>
      <p:sp>
        <p:nvSpPr>
          <p:cNvPr id="5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1F7B-A8E7-4F9E-BA99-70BF26B2D2F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2 point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484280"/>
            <a:ext cx="4043520" cy="4392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les of Chival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not about this King but about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nigh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o served at his Court, democratically seated at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und t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11120" y="3141720"/>
            <a:ext cx="3592440" cy="2787480"/>
          </a:xfrm>
          <a:prstGeom prst="rect">
            <a:avLst/>
          </a:prstGeom>
          <a:ln w="0">
            <a:noFill/>
          </a:ln>
        </p:spPr>
      </p:pic>
      <p:sp>
        <p:nvSpPr>
          <p:cNvPr id="6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262-7F82-445A-AA3E-07F75A05C1C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1 poi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24000" y="2133720"/>
            <a:ext cx="5049720" cy="259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urt was situated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me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most highly favoured knight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ncelot of the L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12640" y="1628640"/>
            <a:ext cx="3159360" cy="4141800"/>
          </a:xfrm>
          <a:prstGeom prst="rect">
            <a:avLst/>
          </a:prstGeom>
          <a:ln w="0">
            <a:noFill/>
          </a:ln>
        </p:spPr>
      </p:pic>
      <p:sp>
        <p:nvSpPr>
          <p:cNvPr id="6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1CBD-7B8B-4A66-B57C-A54AAF63A8E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 is of course…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E2A8-A75F-4318-B66F-94258FE8000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073240" y="1557360"/>
            <a:ext cx="5235480" cy="3921120"/>
          </a:xfrm>
          <a:prstGeom prst="rect">
            <a:avLst/>
          </a:prstGeom>
          <a:ln w="0">
            <a:noFill/>
          </a:ln>
        </p:spPr>
      </p:pic>
      <p:sp>
        <p:nvSpPr>
          <p:cNvPr id="7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771C-A2B6-41F0-8E77-FEFABEBC184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ngratulation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AF39-5D7B-48E7-B01D-60B4006A09D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9:17:18Z</dcterms:created>
  <dc:creator>Pepe</dc:creator>
  <dc:description/>
  <dc:language>en-US</dc:language>
  <cp:lastModifiedBy>Pepe</cp:lastModifiedBy>
  <dcterms:modified xsi:type="dcterms:W3CDTF">2011-08-09T16:09:18Z</dcterms:modified>
  <cp:revision>6</cp:revision>
  <dc:subject/>
  <dc:title>Presentación de PowerPoint</dc:title>
</cp:coreProperties>
</file>